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EA6-0F2E-4E7F-A43E-2AF0301F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B31-44A3-4083-9FFC-D8FEA072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488-6255-42F6-8BE4-DA310A1A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17D-42B4-4F64-9099-5DB1A5F1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091-9D3C-4296-BBF0-0EF70DFE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EBC-67C5-47A8-9D90-A7F0A4E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FBC-C060-4801-B64C-8AEE5A84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455-F4F3-42A5-8E37-35CAF80E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857-7C6B-4551-BA3F-818336FD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FE1-DB63-44DB-BDB3-F953F095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F55-2D8E-4D38-8C0D-A43A06B1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A68-63D9-4D81-B500-5FB68D9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3B93-C1F1-4D16-BF26-D435CB622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1655017uXcjBcRsbi_ph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77120" y="4114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 الراعي الصالحَ يبذُلُ نفسَهُ في سبيل الخرا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457200"/>
            <a:ext cx="1600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َ يبذُلُ نفسَهُ في سبيل الخراف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5215564EUYNjVXDay_ph" descr=""/>
          <p:cNvPicPr/>
          <p:nvPr/>
        </p:nvPicPr>
        <p:blipFill>
          <a:blip r:embed="rId1"/>
          <a:stretch/>
        </p:blipFill>
        <p:spPr>
          <a:xfrm>
            <a:off x="0" y="0"/>
            <a:ext cx="6486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0" y="457200"/>
            <a:ext cx="198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 تسمعُ صوتَهُ جميع رعيت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811b" descr=""/>
          <p:cNvPicPr/>
          <p:nvPr/>
        </p:nvPicPr>
        <p:blipFill>
          <a:blip r:embed="rId1"/>
          <a:stretch/>
        </p:blipFill>
        <p:spPr>
          <a:xfrm>
            <a:off x="0" y="0"/>
            <a:ext cx="7169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304920"/>
            <a:ext cx="1523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آب يحبك لأنك تبذُلُ نفسك في سبيلِ خِرافِكَ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0:51:53Z</dcterms:created>
  <dc:creator>USER</dc:creator>
  <dc:description/>
  <dc:language>en-US</dc:language>
  <cp:lastModifiedBy>USER</cp:lastModifiedBy>
  <dcterms:modified xsi:type="dcterms:W3CDTF">2002-11-28T20:53:21Z</dcterms:modified>
  <cp:revision>1</cp:revision>
  <dc:subject/>
  <dc:title>PowerPoint Presentation</dc:title>
</cp:coreProperties>
</file>